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F936-F8B9-484A-A10B-696B462F5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DAA9-256F-4507-86C7-1E106D966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DA54-593A-4B32-AE9A-2E3FC405A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CC76-996B-40AD-A36B-895814DE4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30394-B3DD-4F7C-8049-FB97CDC4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811ED-C2A7-4155-A1A3-2C61D7C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60ACF-578E-4B44-9D23-54F63FF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7ADE6-4E37-47B5-85D0-A71CCABF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6C558-D404-4F71-8A18-275DB76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71983-5C4D-42B6-88CD-1ED5570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B28F-A092-4826-9AE9-D74C2FD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B906-84C6-4C63-9044-BD47C4FD6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86133-ED59-4F2B-81FF-38FDA647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AEE19-1705-4864-BA7B-06AA9804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47DAC-2E11-4E42-84C2-A9E05BE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791C6-342D-449E-8819-0BEF47E5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2A49-0F2E-4D31-B0BC-9259037C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10F9-53BA-4AA1-AC42-AEAFA5237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56C0-A8B7-4F64-BC04-326980FC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C2EB-DEB9-4E52-97E0-423E6B2A5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9364-431F-4C80-A745-ADF5497E3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641D-C4AC-40EC-9EC5-E6BEDC84F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4EF6-C7B5-4DFF-A41E-5881970CD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3FED-62B9-41B5-97C7-4F3D651E1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8681-3419-441C-B7E2-5B77D603F4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3CD6-8896-4F67-9549-13606EA196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XTCGKkpWmU" TargetMode="External"/><Relationship Id="rId2" Type="http://schemas.openxmlformats.org/officeDocument/2006/relationships/hyperlink" Target="http://www.youtube.com/watch?v=KXOkNOoVFJ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A52A-9351-4B26-9946-F4E9F9F4EB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4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mall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oup yourselves with those who worked with student samples from the same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you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C935-F678-4075-95CC-35B357B63A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arge Group 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your chart paper or spread out on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gallery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 the following focus questions during your gallery wal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you have any insights that you would like to share with the whole grou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is (or any part of this) like something you have used in the classroom?  Particularly in relation to misconceptions with fraction concep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34A7-D0F8-4D64-8E51-5C98E2AFCE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en Ways to Assess Without Putting a Mark on Pa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Setting and Using Criteria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, Kathleen Gregory, Caren Cameron, Anne Davies, Connections Publishing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F51E-BE33-4D21-8BB2-6F32C51095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en Ways to Assess Without Putting a Mark on Pap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, Not Yet Met, I No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mple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of, Les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2057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.B. (Pay Att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cific 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ing Acr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xt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0730-08E3-461B-ABDF-905F48892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ke a minute and think about what you’ve heard, discussed, and done during the plenary and breakout session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 idea, a comment, or a strategy, that caught your attentio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t this down on an exit card, and give it to us as you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D36-2BDE-448C-B6F3-1CDE4988C7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an opportunity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/enhance their giving of descriptive feedback through examination of student work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en their understanding of fraction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C71-2DD5-4113-888C-850C691959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3265-06E5-45C7-BA8C-5505D0FE40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ncing With the Stars - Best Judges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erican Idol - Taylor Hicks' Au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5DB-9533-4EF1-9279-0950E5423A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066680"/>
          <a:ext cx="8458200" cy="384012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  <a:gridCol w="2133360"/>
                <a:gridCol w="2286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ivational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tell”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criptive (“ask”)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0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ake the learner feel go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encourage and support the learn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 “Good work”, “Much improved”, “Very creativ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measure student achievement with a score or gr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is intended to summariz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does not give guidance on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73%”, “Level 2”, “Needs Improvement-Satisfactory-Good-Excellen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to improve student achiev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ll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the learner what needs to be improv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feedback gives specific guidance as to how the learner can improve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Your equations are correct.  Remember to use proper problem solving format.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goal is for students to internalize the feedba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intent of the feedback is to </a:t>
                      </a:r>
                      <a:r>
                        <a:rPr b="0" i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k questions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which will prompt the learner to independently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.g. “I can see your pattern works for the 2 examples you have given.  Will it work for all values of n?  How would you prove this?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Focus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re any overlap among the types of feedback?  How? 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“better” than others?  How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certain types of feedback more appropriate for certain types of tasks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9F5F-3EFD-4F78-918A-5A5EA3193B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9880" y="1371600"/>
          <a:ext cx="8040600" cy="4043520"/>
        </p:xfrm>
        <a:graphic>
          <a:graphicData uri="http://schemas.openxmlformats.org/drawingml/2006/table">
            <a:tbl>
              <a:tblPr/>
              <a:tblGrid>
                <a:gridCol w="1865520"/>
                <a:gridCol w="1866600"/>
                <a:gridCol w="217440"/>
                <a:gridCol w="1845000"/>
                <a:gridCol w="22460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tion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l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ve (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k</a:t>
                      </a:r>
                      <a:r>
                        <a:rPr b="1" lang="ja-JP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Feedbac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motiv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eedback is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marily evalu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primarily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l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he student how to correct their reaso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ve feedback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k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student what to do to move their reasoning to the next le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2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to encourage and support the lear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sure student achievement with a score or a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 by indicating to the student what needs to be impr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pose: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 improve learning, by moving student reasoning to the next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cxnSp>
        <p:nvCxnSpPr>
          <p:cNvPr id="109" name="Straight Arrow Connector 8"/>
          <p:cNvCxnSpPr/>
          <p:nvPr/>
        </p:nvCxnSpPr>
        <p:spPr>
          <a:xfrm>
            <a:off x="2057040" y="5103360"/>
            <a:ext cx="52585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4"/>
          <p:cNvSpPr/>
          <p:nvPr/>
        </p:nvSpPr>
        <p:spPr>
          <a:xfrm>
            <a:off x="3657600" y="6172200"/>
            <a:ext cx="502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Portage la Prairie School Division, 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ww.plpsd.mb.ca/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Samples – 5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assignment, Jaime received the following sc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 A:            Section B:            Tot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ie was confused, because using what she knew about fractions, she did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think that              .  How  would you explain this to Ja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Show what you know about        and       .  Use different representations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Give a real life example of a problem where the solution could involve dividing by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What do you know about          ?  Use diagrams, numbers, algebra, words, etc. to communicate your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Create a sentence that makes sense that includes ALL of these words and numbers:  improper, fraction, simple, challenging,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107E-3E29-4514-9082-4507A6EAA4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534024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DB9B-95AA-46D5-B0B0-F825A766C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2565360" y="1523880"/>
                <a:ext cx="177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268360" y="3600360"/>
                <a:ext cx="169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743280" y="3809880"/>
                <a:ext cx="4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2610000" y="16765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743200" y="2197080"/>
                <a:ext cx="698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3962520" y="2743200"/>
                <a:ext cx="317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4343400" y="1523880"/>
                <a:ext cx="1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5707080" y="1523880"/>
                <a:ext cx="23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4876920" y="2751120"/>
                <a:ext cx="3045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one of the 5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1, 2, or 3 samples of student work fo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with a partner to analyze the student thinking and write descriptive feedback using a 4-colour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F05E-54E7-49F2-A44A-2F50F08576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4-Colour Strateg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t and paste the question and the student sample in the middle of a piece of chart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4 markers of different colours and write the following around the s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the student kn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knowledge/understanding seems frag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questions you might ask the student to expose and evoke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hat a descriptive feedback comment might look like on the student work based on the above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936-2835-44C0-A802-E9C3EF693D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1T18:01:30Z</dcterms:modified>
  <cp:revision>24</cp:revision>
  <dc:subject/>
  <dc:title>&lt;Title&gt;</dc:title>
</cp:coreProperties>
</file>